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37D5F-510F-4514-8D55-7BCE43278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EE02-A0DF-471B-87D7-7A8E9D3B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D51B2-8C67-43D3-A2AC-D9F120320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70CA1-D75B-4F78-B2A0-5EF6FEFC8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26BC0-693B-490C-8896-906A6390A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17F38-6294-4820-ADB9-3A0100470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59C99-FEDC-4CA3-A869-6451280F9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13366-FAD7-4A87-B600-0655EB575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FBF2D-38B6-4D28-9E31-65B65E5E5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E33A5-7BE0-42B7-9BE3-BAB6DC1AE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09D6E-0E20-43C6-AD83-402FB7D31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C687D-D0A8-449B-8DF7-B76AE37B6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A2323-9565-4823-82D9-D78F2AE3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4B9AF-2385-4FF2-ADCF-E7DD9C7DD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DF27F-C98C-489D-96DE-D481F6C2F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3CB63-D3CA-443B-8CB6-B42527DC6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66B20-CE5F-48CB-91B1-6D1562F92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9417-9C6E-4F1F-AE64-5656934F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FBDF-75CE-4FDE-B128-3994F956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DAEE-25DC-4371-A857-B81BE8A4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9D0D-8231-434E-BF7D-9EF8CDB4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E30A-44C1-42D8-A5E8-3EEC98D8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67A4-20B2-43C4-A65A-EA4923DF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53B9-D3D9-4B46-A698-90901F014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d0dae2"/>
                </a:gs>
                <a:gs pos="100000">
                  <a:srgbClr val="c3cc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1B35-C7A0-4E6E-817A-E568411DCF1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d0dae2"/>
                </a:gs>
                <a:gs pos="100000">
                  <a:srgbClr val="afb7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7D22-D9CE-4CC0-83AA-2C8988ADBA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emographie</a:t>
            </a:r>
            <a:endParaRPr b="0" lang="en-US" sz="4400" spc="-1" strike="noStrike">
              <a:solidFill>
                <a:srgbClr val="000000"/>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mographie= Bevölkerungswissenschaft</a:t>
            </a:r>
            <a:endParaRPr b="0" lang="en-US" sz="3200" spc="-1" strike="noStrike">
              <a:solidFill>
                <a:srgbClr val="000000"/>
              </a:solidFill>
              <a:latin typeface="Tahoma"/>
            </a:endParaRPr>
          </a:p>
          <a:p>
            <a:pPr marL="329040" indent="-32904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 wissenschaftliche Untersuchung menschlicher Bevölkerungen. </a:t>
            </a:r>
            <a:endParaRPr b="0" lang="en-US" sz="3200" spc="-1" strike="noStrike">
              <a:solidFill>
                <a:srgbClr val="000000"/>
              </a:solidFill>
              <a:latin typeface="Tahoma"/>
            </a:endParaRPr>
          </a:p>
          <a:p>
            <a:pPr marL="329040" indent="-32904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ert  Größe, Zusammensetzung, Verteilungen, Dichte, Wachstum und andere Eigenschaften von Bevölkerungen sowie ihre Veränderungen und betrachtet ihre Ursachen und Folg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106" name="PlaceHolder 2"/>
          <p:cNvSpPr>
            <a:spLocks noGrp="1"/>
          </p:cNvSpPr>
          <p:nvPr>
            <p:ph/>
          </p:nvPr>
        </p:nvSpPr>
        <p:spPr>
          <a:xfrm>
            <a:off x="457200" y="1413000"/>
            <a:ext cx="8291520" cy="44640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horte:</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der Demographie wird damit eine Gruppe von Personen bezeichnet, die ein bestimmtes Ereignis in einem spezifischen Zeitraum erfahren oder die durch bestimmte gemeinsame Merkmale definiert sind (geographischer Standort, Alter, Geschlecht, etc.). </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burtskohorte bezieht sich demnach auf eine Gruppe von Personen, die während eines bestimmten Zeitraumes, gewöhnlich bezogen auf ein Kalenderjahr, geboren werden. </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 Begriff Generation kann als Synonym zu Geburtenkohorte verwendet werde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evölkerungswachstum</a:t>
            </a:r>
            <a:endParaRPr b="0" lang="en-US" sz="4400" spc="-1" strike="noStrike">
              <a:solidFill>
                <a:srgbClr val="000000"/>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t eines der wichtigsten globalen Probleme der heutigen Zeit</a:t>
            </a:r>
            <a:endParaRPr b="0" lang="en-US" sz="3200" spc="-1" strike="noStrike">
              <a:solidFill>
                <a:srgbClr val="000000"/>
              </a:solidFill>
              <a:latin typeface="Tahoma"/>
            </a:endParaRPr>
          </a:p>
          <a:p>
            <a:pPr marL="329040" indent="-3290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gefähr ein Viertel der Weltbevölkerung leidet an Unterernährung</a:t>
            </a:r>
            <a:endParaRPr b="0" lang="en-US" sz="3200" spc="-1" strike="noStrike">
              <a:solidFill>
                <a:srgbClr val="000000"/>
              </a:solidFill>
              <a:latin typeface="Tahoma"/>
            </a:endParaRPr>
          </a:p>
          <a:p>
            <a:pPr marL="329040" indent="-3290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edes Jahr verhungern mehr als zehn Millionen Menschen</a:t>
            </a:r>
            <a:endParaRPr b="0" lang="en-US" sz="3200" spc="-1" strike="noStrike">
              <a:solidFill>
                <a:srgbClr val="000000"/>
              </a:solidFill>
              <a:latin typeface="Tahoma"/>
            </a:endParaRPr>
          </a:p>
          <a:p>
            <a:pPr marL="329040" indent="-3290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s Bevölkerungswachstum findet zu 95 Prozent in Entwicklungsländern stat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Tahoma"/>
              </a:rPr>
              <a:t>Malthusianismus</a:t>
            </a:r>
            <a:endParaRPr b="0" lang="en-US" sz="4400" spc="-1" strike="noStrike">
              <a:solidFill>
                <a:srgbClr val="000000"/>
              </a:solidFill>
              <a:latin typeface="Tahoma"/>
            </a:endParaRPr>
          </a:p>
        </p:txBody>
      </p:sp>
      <p:sp>
        <p:nvSpPr>
          <p:cNvPr id="110" name="PlaceHolder 2"/>
          <p:cNvSpPr>
            <a:spLocks noGrp="1"/>
          </p:cNvSpPr>
          <p:nvPr>
            <p:ph/>
          </p:nvPr>
        </p:nvSpPr>
        <p:spPr>
          <a:xfrm>
            <a:off x="457200" y="1413000"/>
            <a:ext cx="8291520" cy="4752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s Grundprinzip des Bevölkerungswachstums und seine Abhängigkeiten von den natürlichen Umweltbedingungen erkannte bereits Thomas Malthus und beschrieb sie in seinem 1798 erschienenen </a:t>
            </a:r>
            <a:r>
              <a:rPr b="0" i="1" lang="de-DE" sz="2000" spc="-1" strike="noStrike">
                <a:solidFill>
                  <a:srgbClr val="000000"/>
                </a:solidFill>
                <a:latin typeface="Tahoma"/>
              </a:rPr>
              <a:t>Essay on the Principle of Population</a:t>
            </a: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ine Hauptthese lautete, dass Bevölkerungswachstum grundsätzlich exponentiell, das Wachstum der verfügbaren Nahrungsmittelressourcen jedoch stets linear verlaufe. </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ach dieser Annahme muss es also früher oder später (abhängig von den Wachstumsraten) zu einem Überschreiten der natürlichen Tragfähigkeitsgrenze kommen („Wachstumsfalle“, malthusian checks).</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rotz der Wiederlegung der Annahmen von Malthus wird in der wissenschaftlichen Diskussion seine Theorie immer wieder aufgegriffen, da sie zum ersten Mal die grundlegenden bis heute ungelösten Fragen im Kontext der globalen Grenzen des Wachstums , des anhaltenden Bevölkerungswachstums und der begrenzten Tragfähigkeit der Erde thematisiert hat. </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se Ideen Malthus' wurden als Bevölkerungsgesetz bekan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evölkerungsgesetz</a:t>
            </a:r>
            <a:endParaRPr b="0" lang="en-US" sz="4400" spc="-1" strike="noStrike">
              <a:solidFill>
                <a:srgbClr val="000000"/>
              </a:solidFill>
              <a:latin typeface="Tahoma"/>
            </a:endParaRPr>
          </a:p>
        </p:txBody>
      </p:sp>
      <p:sp>
        <p:nvSpPr>
          <p:cNvPr id="112" name="PlaceHolder 2"/>
          <p:cNvSpPr>
            <a:spLocks noGrp="1"/>
          </p:cNvSpPr>
          <p:nvPr>
            <p:ph/>
          </p:nvPr>
        </p:nvSpPr>
        <p:spPr>
          <a:xfrm>
            <a:off x="457200" y="1413000"/>
            <a:ext cx="8291520" cy="475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s </a:t>
            </a:r>
            <a:r>
              <a:rPr b="1" lang="en-US" sz="2400" spc="-1" strike="noStrike">
                <a:solidFill>
                  <a:srgbClr val="000000"/>
                </a:solidFill>
                <a:latin typeface="Tahoma"/>
              </a:rPr>
              <a:t>Bevölkerungsgesetz</a:t>
            </a:r>
            <a:r>
              <a:rPr b="0" lang="en-US" sz="2400" spc="-1" strike="noStrike">
                <a:solidFill>
                  <a:srgbClr val="000000"/>
                </a:solidFill>
                <a:latin typeface="Tahoma"/>
              </a:rPr>
              <a:t> besagt, dass die Bevölkerungszahlen der Welt exponentiell ansteigen, somit einer geometrischen Reihe genüge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 Beobachtungen der letzten Jahrhunderte zeigt in der Tat ein exponentielles Wachstum der Bevölkerungszahlen.</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 - während die Bevölkerung sich entsprechend einer geometrischen Reihe vermehre - das Nahrungsmittelangebot nur arithmetisch wachse, ginge die Schere immer weiter auseinander ...</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2 - 3 - 4 - 5 - 6 - 7 - 8 - 9 - 10 ...</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2 - 4 - 8 - 16 - 32 - 64 - 12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Demographischer Übergang</a:t>
            </a:r>
            <a:endParaRPr b="0" lang="en-US" sz="4400" spc="-1" strike="noStrike">
              <a:solidFill>
                <a:srgbClr val="000000"/>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Übergang von hohen zu niedrigen Geburten- und Sterberaten im historischen  Prozess.</a:t>
            </a:r>
            <a:endParaRPr b="0" lang="en-US" sz="3200" spc="-1" strike="noStrike">
              <a:solidFill>
                <a:srgbClr val="000000"/>
              </a:solidFill>
              <a:latin typeface="Tahoma"/>
            </a:endParaRPr>
          </a:p>
          <a:p>
            <a:pPr marL="343080" indent="-34308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 Sterberate sinkt früher als die Geburtenrate.</a:t>
            </a:r>
            <a:endParaRPr b="0" lang="en-US" sz="3200" spc="-1" strike="noStrike">
              <a:solidFill>
                <a:srgbClr val="000000"/>
              </a:solidFill>
              <a:latin typeface="Tahoma"/>
            </a:endParaRPr>
          </a:p>
          <a:p>
            <a:pPr marL="343080" indent="-343080">
              <a:lnSpc>
                <a:spcPct val="90000"/>
              </a:lnSpc>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ser Unterschied  führt während einer Übergangsperiode zu starkem Bevölkerungswachstum.</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ünf Phasen Modell</a:t>
            </a:r>
            <a:endParaRPr b="0" lang="en-US" sz="4400" spc="-1" strike="noStrike">
              <a:solidFill>
                <a:srgbClr val="000000"/>
              </a:solidFill>
              <a:latin typeface="Tahoma"/>
            </a:endParaRPr>
          </a:p>
        </p:txBody>
      </p:sp>
      <p:pic>
        <p:nvPicPr>
          <p:cNvPr id="116" name="" descr=""/>
          <p:cNvPicPr/>
          <p:nvPr/>
        </p:nvPicPr>
        <p:blipFill>
          <a:blip r:embed="rId1"/>
          <a:stretch/>
        </p:blipFill>
        <p:spPr>
          <a:xfrm>
            <a:off x="1619280" y="1413000"/>
            <a:ext cx="5543640" cy="464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ünf Phasen Modell</a:t>
            </a:r>
            <a:endParaRPr b="0" lang="en-US" sz="4400" spc="-1" strike="noStrike">
              <a:solidFill>
                <a:srgbClr val="000000"/>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HASE I Prätransformative oder Vorbereitungsphase: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ohe, kaum voneinander abweichende Geburten- und Sterberaten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terberate kann größere Schwankungen aufweisen und zeitweilig (durch Krankheiten, Seuchen, Hungersnöte, Kriege) die Geburtenrate übertreffen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hr geringes Bevölkerungswachstum. </a:t>
            </a:r>
            <a:endParaRPr b="0" lang="en-US" sz="2000" spc="-1" strike="noStrike">
              <a:solidFill>
                <a:srgbClr val="000000"/>
              </a:solidFill>
              <a:latin typeface="Tahoma"/>
            </a:endParaRPr>
          </a:p>
          <a:p>
            <a:pPr marL="318960" indent="-31896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HASE II Frühtransformative oder Einleitungsphase: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Geburtenrate bleibt konstant hoch, kann sogar aufgrund des verbesserten Gesundheitszustandes der Frauen leicht ansteigen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langsames, meist nicht gleichmäßiges Absinken der Sterberate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a:t>
            </a:r>
            <a:r>
              <a:rPr b="0" i="1" lang="de-DE" sz="2000" spc="-1" strike="noStrike">
                <a:solidFill>
                  <a:srgbClr val="000000"/>
                </a:solidFill>
                <a:latin typeface="Tahoma"/>
              </a:rPr>
              <a:t>Bevölkerungsschere</a:t>
            </a:r>
            <a:r>
              <a:rPr b="0" lang="de-DE" sz="2000" spc="-1" strike="noStrike">
                <a:solidFill>
                  <a:srgbClr val="000000"/>
                </a:solidFill>
                <a:latin typeface="Tahoma"/>
              </a:rPr>
              <a:t> öffnet sich </a:t>
            </a:r>
            <a:endParaRPr b="0" lang="en-US" sz="2000" spc="-1" strike="noStrike">
              <a:solidFill>
                <a:srgbClr val="000000"/>
              </a:solidFill>
              <a:latin typeface="Tahoma"/>
            </a:endParaRPr>
          </a:p>
          <a:p>
            <a:pPr marL="318960" indent="-31896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HASE III Mitteltransformative oder Umschwungphase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Sterberate fällt weiter auf ein niedriges Niveau; die Geburtenrate geht langsam zurück </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e </a:t>
            </a:r>
            <a:r>
              <a:rPr b="0" i="1" lang="de-DE" sz="2000" spc="-1" strike="noStrike">
                <a:solidFill>
                  <a:srgbClr val="000000"/>
                </a:solidFill>
                <a:latin typeface="Tahoma"/>
              </a:rPr>
              <a:t>Bevölkerungsschere</a:t>
            </a:r>
            <a:r>
              <a:rPr b="0" lang="de-DE" sz="2000" spc="-1" strike="noStrike">
                <a:solidFill>
                  <a:srgbClr val="000000"/>
                </a:solidFill>
                <a:latin typeface="Tahoma"/>
              </a:rPr>
              <a:t> ist am weitesten geöffne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ünf Phasen Modell</a:t>
            </a:r>
            <a:endParaRPr b="0" lang="en-US" sz="4400" spc="-1" strike="noStrike">
              <a:solidFill>
                <a:srgbClr val="000000"/>
              </a:solidFill>
              <a:latin typeface="Tahoma"/>
            </a:endParaRPr>
          </a:p>
        </p:txBody>
      </p:sp>
      <p:sp>
        <p:nvSpPr>
          <p:cNvPr id="120"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HASE IV Spättransformative oder Einlenkungsphase: </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Sterberate sinkt kaum noch; die Geburtenrate nimmt dagegen sehr stark ab (durch bekannte Methoden und Mittel der Empfängnisverhütung) </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Bevölkerungswachstum geht zurück, die </a:t>
            </a:r>
            <a:r>
              <a:rPr b="0" i="1" lang="de-DE" sz="2400" spc="-1" strike="noStrike">
                <a:solidFill>
                  <a:srgbClr val="000000"/>
                </a:solidFill>
                <a:latin typeface="Tahoma"/>
              </a:rPr>
              <a:t>Bevölkerungsschere</a:t>
            </a:r>
            <a:r>
              <a:rPr b="0" lang="de-DE" sz="2400" spc="-1" strike="noStrike">
                <a:solidFill>
                  <a:srgbClr val="000000"/>
                </a:solidFill>
                <a:latin typeface="Tahoma"/>
              </a:rPr>
              <a:t> schließt sich </a:t>
            </a:r>
            <a:endParaRPr b="0" lang="en-US" sz="2400" spc="-1" strike="noStrike">
              <a:solidFill>
                <a:srgbClr val="000000"/>
              </a:solidFill>
              <a:latin typeface="Tahoma"/>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HASE V Posttransformative oder ausklingende Phase </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Geburten- und Sterberate sind stabil und niedrig </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völkerungswachstum ist gering und unterliegt kaum Schwankunge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ntersuchungsgegenstand</a:t>
            </a:r>
            <a:endParaRPr b="0" lang="en-US" sz="4400" spc="-1" strike="noStrike">
              <a:solidFill>
                <a:srgbClr val="000000"/>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ie Bevölkerung selbst (z. B. Wohnbevölkerung, Tag-/Nachtbevölkerung), </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ie Bevölkerungsstruktur (z. B. Alter, Geschlecht, Nationalität, Haushaltsstruktur), </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ie Bevölkerungsbewegung (horizontale Mobilität, Natürlicher Bevölkerungssaldo, Migrationssaldo) sowie </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ls Historische Demographie die Bevölkerungsgeschich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Methodik</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hre Daten bezieht die Bevölkerungswissenschaft aus der laufend fortgeschriebenen Statistik, aus Stichproben und aus Volkszählungen.</a:t>
            </a:r>
            <a:endParaRPr b="0" lang="en-US" sz="2400" spc="-1" strike="noStrike">
              <a:solidFill>
                <a:srgbClr val="000000"/>
              </a:solidFill>
              <a:latin typeface="Tahoma"/>
            </a:endParaRPr>
          </a:p>
          <a:p>
            <a:pPr marL="332640" indent="-3326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r Untersuchung demografischer Prozesse (also der Bevölkerungsbewegung) werden neben verschiedenen, statistischen Kennziffern wie Geburtenrate, Fruchtbarkeitsrate, Sterberate, Migrationsrate, Lebenserwartung, etc. auch graphische Darstellungen wie die Alterspyramide verwendet.</a:t>
            </a:r>
            <a:endParaRPr b="0" lang="en-US" sz="2400" spc="-1" strike="noStrike">
              <a:solidFill>
                <a:srgbClr val="000000"/>
              </a:solidFill>
              <a:latin typeface="Tahoma"/>
            </a:endParaRPr>
          </a:p>
          <a:p>
            <a:pPr marL="332640" indent="-3326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r die vorstatistische Zeit (also vor 1850) werden derartige Daten durch die Auswertung von Kirchen- und Ortsfamilienbüchern und anderen Quellen berech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he) Geburtenrate (-ziffer) und altersspezifische Geburtenrate: </a:t>
            </a:r>
            <a:endParaRPr b="0" lang="en-US" sz="2400" spc="-1" strike="noStrike">
              <a:solidFill>
                <a:srgbClr val="000000"/>
              </a:solidFill>
              <a:latin typeface="Tahoma"/>
            </a:endParaRPr>
          </a:p>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 Deutschen wird der Quotient "Lebendgeborene auf 1000 Einwohner" als "rohe Geburtenrate" oder als "rohe Geburtenziffer" bezeichnet. </a:t>
            </a:r>
            <a:endParaRPr b="0" lang="en-US" sz="2400" spc="-1" strike="noStrike">
              <a:solidFill>
                <a:srgbClr val="000000"/>
              </a:solidFill>
              <a:latin typeface="Tahoma"/>
            </a:endParaRPr>
          </a:p>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d diese nach den einzelnen Altersjahren des gebärfähigen Alters (15-45) untergliedert, ergeben sich die 31 "altersspezifischen Geburtenziffern" (Lebendgeborene pro Frau in einem bestimmten Alter auf 1000 Frauen dieses Alte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96" name="PlaceHolder 2"/>
          <p:cNvSpPr>
            <a:spLocks noGrp="1"/>
          </p:cNvSpPr>
          <p:nvPr>
            <p:ph/>
          </p:nvPr>
        </p:nvSpPr>
        <p:spPr>
          <a:xfrm>
            <a:off x="457200" y="1600200"/>
            <a:ext cx="8291520" cy="4781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ertilitätsrate:</a:t>
            </a:r>
            <a:r>
              <a:rPr b="0" lang="en-US" sz="2400" spc="-1" strike="noStrike">
                <a:solidFill>
                  <a:srgbClr val="000000"/>
                </a:solidFill>
                <a:latin typeface="Tahoma"/>
              </a:rPr>
              <a:t> Verhältnis der Anzahl der Lebendgeburten zur Anzahl der Frauen im reproduktionsfähigen Alter. </a:t>
            </a:r>
            <a:endParaRPr b="0" lang="en-US" sz="2400" spc="-1" strike="noStrike">
              <a:solidFill>
                <a:srgbClr val="000000"/>
              </a:solidFill>
              <a:latin typeface="Tahoma"/>
            </a:endParaRPr>
          </a:p>
          <a:p>
            <a:pPr marL="325800" indent="-32580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nn sie ohne zusätzliche Angaben benutzt wird versteht man darunter die Anzahl der Lebendgeburten pro 1000 Frauen im Alter von 15 bis 49 bzw. 15 bis 44 Jahren. </a:t>
            </a:r>
            <a:endParaRPr b="0" lang="en-US" sz="2400" spc="-1" strike="noStrike">
              <a:solidFill>
                <a:srgbClr val="000000"/>
              </a:solidFill>
              <a:latin typeface="Tahoma"/>
            </a:endParaRPr>
          </a:p>
          <a:p>
            <a:pPr marL="325800" indent="-32580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 Kennzahl kann entweder der Durchschnittswert bzw. die in der Jahresmitte ermittelte Zahl von Frauen dieses Alters sein, oder sich auf die Anzahl der Lebensjahre dieser Gruppe im Beobachtungszeitraum (Person - Jahr) beziehen = "allgemeine Fertilitätsrate" genannt. </a:t>
            </a:r>
            <a:endParaRPr b="0" lang="en-US" sz="2400" spc="-1" strike="noStrike">
              <a:solidFill>
                <a:srgbClr val="000000"/>
              </a:solidFill>
              <a:latin typeface="Tahoma"/>
            </a:endParaRPr>
          </a:p>
          <a:p>
            <a:pPr marL="325800" indent="-32580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sspezifische Fertilitätsraten werden als Anzahl der Geburten von Frauen in einer bestimmten Altersgruppe definie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he) Sterbeziffer (-rate): </a:t>
            </a:r>
            <a:endParaRPr b="0" lang="en-US" sz="2800" spc="-1" strike="noStrike">
              <a:solidFill>
                <a:srgbClr val="000000"/>
              </a:solidFill>
              <a:latin typeface="Tahoma"/>
            </a:endParaRPr>
          </a:p>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e Sterberate oder -ziffer ist analog zur Geburtenrate (bzw. -ziffer) als Zahl der Sterbefälle auf 1000 Einwohner definiert (rohe Sterberate bzw. -ziffer). </a:t>
            </a:r>
            <a:endParaRPr b="0" lang="en-US" sz="2800" spc="-1" strike="noStrike">
              <a:solidFill>
                <a:srgbClr val="000000"/>
              </a:solidFill>
              <a:latin typeface="Tahoma"/>
            </a:endParaRPr>
          </a:p>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 Untergliederung des Zählers und Nenners der Sterberate nach Alter und Geschlecht ergeben sich die "alters- und geschlechtsspezifischen Sterberaten (bzw. -ziffern)".</a:t>
            </a:r>
            <a:br>
              <a:rPr sz="2800"/>
            </a:b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äuglingssterblichkeit:</a:t>
            </a:r>
            <a:endParaRPr b="0" lang="en-US" sz="32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mit  erfasst man den prozentualen Anteil der Kinder, die vor Erreichung des ersten Lebensjahres sterben. </a:t>
            </a:r>
            <a:endParaRPr b="0" lang="en-US" sz="32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ine hohe Säuglingssterblichkeit ist ein Kennzeichen von Unterentwicklung und in Entwicklungsländern besonders häufig anzutreffe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102" name="PlaceHolder 2"/>
          <p:cNvSpPr>
            <a:spLocks noGrp="1"/>
          </p:cNvSpPr>
          <p:nvPr>
            <p:ph/>
          </p:nvPr>
        </p:nvSpPr>
        <p:spPr>
          <a:xfrm>
            <a:off x="457200" y="1412640"/>
            <a:ext cx="82915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Tahoma"/>
              </a:rPr>
              <a:t>Reproduktionsrate (Bruttoreproduktionsrate, reproduktive Rate)</a:t>
            </a:r>
            <a:r>
              <a:rPr b="0" lang="de-DE" sz="2200" spc="-1" strike="noStrike">
                <a:solidFill>
                  <a:srgbClr val="000000"/>
                </a:solidFill>
                <a:latin typeface="Tahoma"/>
              </a:rPr>
              <a:t>:  </a:t>
            </a:r>
            <a:r>
              <a:rPr b="1" lang="de-DE" sz="2000" spc="-1" strike="noStrike">
                <a:solidFill>
                  <a:srgbClr val="000000"/>
                </a:solidFill>
                <a:latin typeface="Tahoma"/>
              </a:rPr>
              <a:t>Ein Indikator für Bevölkerungsaustausch, der auf der Annahme basiert, dass die Mortalität vor dem Ende der Reproduktionsperiode gleich Null ist. </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wird als Durchschnittszahl der lebenden Töchter definiert, die innerhalb einer hypothetischen weiblichen Geburtenkohorte geboren werden würden, die ihrerseits einem Set von altersspezifischen Ferilitätsraten unterliegen würden.</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Sie entspricht der totalen Fertilitätsrate multipliziert mit dem Anteil von Mädchen aller lebendig geborener Kinder.</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Eine Bruttoreproduktionsrate von 1 bedeutet, dass die Generation der Töchter der Generation der Mütter gleichen würde, wenn alle Töchter bis zum Ende der Reproduktionsperiode überleben würden. </a:t>
            </a:r>
            <a:endParaRPr b="0" lang="en-US" sz="2000" spc="-1" strike="noStrike">
              <a:solidFill>
                <a:srgbClr val="000000"/>
              </a:solidFill>
              <a:latin typeface="Tahoma"/>
            </a:endParaRPr>
          </a:p>
          <a:p>
            <a:pPr marL="343080" indent="-3430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ie Menge, die auch die Überlebenden bis zum Ende einer Reproduktionsperiode einbezieht, wird Nettoreproduktionsrate genan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Grundbegriffe der Demographie</a:t>
            </a:r>
            <a:endParaRPr b="0" lang="en-US" sz="4000" spc="-1" strike="noStrike">
              <a:solidFill>
                <a:srgbClr val="000000"/>
              </a:solidFill>
              <a:latin typeface="Tahoma"/>
            </a:endParaRPr>
          </a:p>
        </p:txBody>
      </p:sp>
      <p:sp>
        <p:nvSpPr>
          <p:cNvPr id="104" name="PlaceHolder 2"/>
          <p:cNvSpPr>
            <a:spLocks noGrp="1"/>
          </p:cNvSpPr>
          <p:nvPr>
            <p:ph/>
          </p:nvPr>
        </p:nvSpPr>
        <p:spPr>
          <a:xfrm>
            <a:off x="457200" y="1412640"/>
            <a:ext cx="8291520" cy="5040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benserwartung:</a:t>
            </a:r>
            <a:r>
              <a:rPr b="0" lang="en-US" sz="2800" spc="-1" strike="noStrike">
                <a:solidFill>
                  <a:srgbClr val="000000"/>
                </a:solidFill>
                <a:latin typeface="Tahoma"/>
              </a:rPr>
              <a:t> Eine Schätzung der Durchschnittsanzahl von Jahren, die eine Person ab einem bestimmten Alter erwarten kann zu leben. </a:t>
            </a:r>
            <a:endParaRPr b="0" lang="en-US" sz="2800" spc="-1" strike="noStrike">
              <a:solidFill>
                <a:srgbClr val="000000"/>
              </a:solidFill>
              <a:latin typeface="Tahoma"/>
            </a:endParaRPr>
          </a:p>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e voraussichtliche Lebensdauer bei Geburt ist ein spezieller Fall, bei dem die durchschnittliche Lebenszeitspanne von Geburt bis zum Tod in einer Bevölkerung dargestellt wird. </a:t>
            </a:r>
            <a:endParaRPr b="0" lang="en-US" sz="2800" spc="-1" strike="noStrike">
              <a:solidFill>
                <a:srgbClr val="000000"/>
              </a:solidFill>
              <a:latin typeface="Tahoma"/>
            </a:endParaRPr>
          </a:p>
          <a:p>
            <a:pPr marL="343080" indent="-343080">
              <a:lnSpc>
                <a:spcPct val="8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es ist eine hypothetische Zahl, die auf der Basis von gegenwärtigen altersspezifischen Sterblichkeitsraten berechnet und auf die Zukunft hochgerechnet wir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10:41:13Z</dcterms:created>
  <dc:creator>Dietmar Hennig</dc:creator>
  <dc:description/>
  <dc:language>en-US</dc:language>
  <cp:lastModifiedBy>Dietmar Hennig</cp:lastModifiedBy>
  <dcterms:modified xsi:type="dcterms:W3CDTF">2005-04-08T10:09:29Z</dcterms:modified>
  <cp:revision>5</cp:revision>
  <dc:subject/>
  <dc:title>Bevölkerungswachstum</dc:title>
</cp:coreProperties>
</file>